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11E-015A-4A4C-9568-B0444603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80C-3F4E-41B6-ADC9-C1D8EBC7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767-4D7E-44E3-8B4B-6291CB6C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908-E896-4E24-B2F5-8A86CA56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D6B-2ACD-492E-A828-0F935874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138-9F6A-4531-AF8B-3DBC6F2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5BF-39EE-467B-B73C-56416D36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03D-017B-4E59-A400-AF73ED65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FD4-5DED-4073-A0A0-6FCD2292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7FB-2363-4A41-871E-23ED424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7EF-89C7-4901-B443-CD6576A0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8DF-1A45-4C49-A5C4-9A25DA54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8FB3-EB7F-438B-8AB6-23CAA9703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Unicode MS"/>
              </a:rPr>
              <a:t>Los changu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280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 Unicode MS"/>
              </a:rPr>
              <a:t>Dicen que los chang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 Unicode MS"/>
              </a:rPr>
              <a:t>no usan sombrer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 Unicode MS"/>
              </a:rPr>
              <a:t>por que los changuit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 Unicode MS"/>
              </a:rPr>
              <a:t>les hacen aguj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corbata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 que los changuit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s pisan con las pa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camisas.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que al caminar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os changuitos se las pi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pantalone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 que los changuit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stán muy petac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zapatos.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 que los changuit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inan como pa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calcetine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 que los changuit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os usan de pat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calzoncillos.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 que los changuit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os dejan amaril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¡Que bien que les viene,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que bien que les va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que viva la vida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 ja ,ja ,ja ,j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0:56:50Z</dcterms:created>
  <dc:creator>hp</dc:creator>
  <dc:description/>
  <dc:language>en-US</dc:language>
  <cp:lastModifiedBy>Usuario</cp:lastModifiedBy>
  <dcterms:modified xsi:type="dcterms:W3CDTF">2008-03-04T17:30:12Z</dcterms:modified>
  <cp:revision>4</cp:revision>
  <dc:subject/>
  <dc:title>Los changuitos</dc:title>
</cp:coreProperties>
</file>